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0CE-3D86-43DD-A262-8E6AE9A2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5A68-96AC-44D3-B0B5-62DE9B0A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344C-6AFE-445F-A8B3-F577FA31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711-73D7-466C-A059-457FBB8F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0640-CA92-48D9-BF45-0D5EC8F5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E14A-C15B-4F54-A72A-5628FD02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3E17-9351-4B6B-B1ED-4562AD2F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7495-1E6A-4776-8A25-59ED354D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848D-E429-41FE-A0C8-342B1A25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60CE-5FA4-4725-B0F8-7D2EC661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B07F-1D97-475B-A5C0-87318B5F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BF2-0202-4459-9904-055B9E92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C9DE-5AD0-4DF0-8C48-4C3CF54F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E708-7CF8-4115-AD7B-D568CC44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F266-CB6E-427F-9C0E-397610B8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1A3D-B574-40D5-A788-B69EB887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76B6-ECD7-4B03-BD7C-F24EA7C5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775-7939-45B1-A2BE-0B1E2923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E6E2-E834-42BC-AA44-DBBA7EA2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35B-A91A-495C-8A66-00D4AF6B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50A-6109-4EF3-AA2D-CEC705C5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862-766A-4FF1-9625-AE16E7C6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64E-9867-4062-8540-A139375F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5DC-17CF-4640-9A6E-6DFC4525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7306-43D6-4A58-9667-65F1F8CB2E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E5E6-DEBD-44D4-9A63-AC421176FD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Wenceslas_Hollar_-_William_Oughtred.jpg?uselang=ru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395520" y="1438200"/>
            <a:ext cx="5615280" cy="1536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499920" y="3214800"/>
            <a:ext cx="5186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зентацию подготовил  учени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4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 Сере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ласс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а Н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429000" y="571680"/>
            <a:ext cx="52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Русско-Устьинская основная общеобразовательная школ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5" descr=""/>
          <p:cNvPicPr/>
          <p:nvPr/>
        </p:nvPicPr>
        <p:blipFill>
          <a:blip r:embed="rId2"/>
          <a:stretch/>
        </p:blipFill>
        <p:spPr>
          <a:xfrm>
            <a:off x="622440" y="25178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499760" y="1500120"/>
            <a:ext cx="7186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i.allday.ru/uploads/posts/2009-08/thumbs/1250058141_1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cboe.net/Teachers/Durham_Sharon/images/918F9422010B4BB0B160956D6B9D4E3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utkonos.ru/images/it/027/008/006/1238197P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2"/>
          <a:stretch/>
        </p:blipFill>
        <p:spPr>
          <a:xfrm>
            <a:off x="642960" y="1428840"/>
            <a:ext cx="728640" cy="1000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3"/>
          <a:stretch/>
        </p:blipFill>
        <p:spPr>
          <a:xfrm>
            <a:off x="428760" y="2857680"/>
            <a:ext cx="1011240" cy="996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d:\Мои документы\Мои рисунки\+14448-800x800.jpg"/>
          <p:cNvPicPr/>
          <p:nvPr/>
        </p:nvPicPr>
        <p:blipFill>
          <a:blip r:embed="rId4"/>
          <a:stretch/>
        </p:blipFill>
        <p:spPr>
          <a:xfrm>
            <a:off x="133200" y="4138560"/>
            <a:ext cx="1487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786120" y="71424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зобретателями первых логарифмических линеек являются англичане — математик и педагог Уильям Отред и учитель математики Ричард Деламей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http://t0.gstatic.com/images?q=tbn:ANd9GcRNFxSjRGNPJxPs-udEMvAzkXnjaXJhN8TtWeUFiiCWF6FyUn4cm1apfuE"/>
          <p:cNvPicPr/>
          <p:nvPr/>
        </p:nvPicPr>
        <p:blipFill>
          <a:blip r:embed="rId1"/>
          <a:stretch/>
        </p:blipFill>
        <p:spPr>
          <a:xfrm>
            <a:off x="928800" y="7858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http://t0.gstatic.com/images?q=tbn:ANd9GcRJSKKI3xjpe2q2TQZqljHngNq5pus390693bProlw4SAfGQ-mbKajA7oY"/>
          <p:cNvPicPr/>
          <p:nvPr/>
        </p:nvPicPr>
        <p:blipFill>
          <a:blip r:embed="rId2"/>
          <a:stretch/>
        </p:blipFill>
        <p:spPr>
          <a:xfrm>
            <a:off x="928800" y="342900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71320" y="3285720"/>
            <a:ext cx="797220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етом 1630 года у Отреда гостил его ученик и друг, лондонский учитель математики Уильям Форстер. Коллеги разговаривали о математике и, как бы сказали сегодня, о методике ее преподавания. В одной из бесед Отред критически отозвался о шкале Гюнтера, отметив, что манипулирование двумя циркулями отнимает много времени и дает низкую т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http://t3.gstatic.com/images?q=tbn:ANd9GcS0YvEh1L5Fc-oKo8Aic8riWad8aS-KekpIk-JxvfdZW6xElLsYl7MQ-CY"/>
          <p:cNvPicPr/>
          <p:nvPr/>
        </p:nvPicPr>
        <p:blipFill>
          <a:blip r:embed="rId1"/>
          <a:stretch/>
        </p:blipFill>
        <p:spPr>
          <a:xfrm>
            <a:off x="1714680" y="500040"/>
            <a:ext cx="4786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714480" y="64296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аллиец Эдмунд Гюнтер построил логарифмическую шкалу, которая использовалась вместе с двумя циркулями-измерителями. Шкала Гюнтера представляла собой отрезок с делениями, соответствующими логарифмам чисел или тригонометрических величин. (Несколько таких шкал располагались на деревянной или медной пластинке параллельно друг другу.) С помощью циркулей-измерителей определяли сумму или разность длин отрезков шкалы, что в соответствии со свойствами логарифмов позволяло находить произведение или част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Wenceslas Hollar - William Oughtre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8800" y="785880"/>
            <a:ext cx="2857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214520" y="107172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ервая линейка Отреда имела две логарифмические шкалы, одна из которых могла смещаться относительно другой, неподвиж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торой инструмент представлял собой кольцо, внутри которого вращался на оси 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а круге (снаружи) и внутри кольца были изображены “свернутые в окружность” логарифмические шка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бе линейки позволяли обходиться без циркулей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571680" y="1571760"/>
            <a:ext cx="3951000" cy="873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http://elcode-blog.ru/wp-content/uploads/2011/11/025-150x150.jpg"/>
          <p:cNvPicPr/>
          <p:nvPr/>
        </p:nvPicPr>
        <p:blipFill>
          <a:blip r:embed="rId2"/>
          <a:stretch/>
        </p:blipFill>
        <p:spPr>
          <a:xfrm>
            <a:off x="1071720" y="32148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142880" y="785880"/>
            <a:ext cx="44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 всей видимости, Уильям Отред и Ричард Деламейн изобрели логарифмическую линейку независимо друг от друг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А в 1654 году англичанин Роберт Биссакер предложил конструкцию прямоугольной логарифмической линейки, общий вид которой сохранился до нашего времен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1343160" y="693720"/>
            <a:ext cx="1871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93560" y="2066760"/>
            <a:ext cx="8242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"/>
          <p:cNvPicPr/>
          <p:nvPr/>
        </p:nvPicPr>
        <p:blipFill>
          <a:blip r:embed="rId1"/>
          <a:stretch/>
        </p:blipFill>
        <p:spPr>
          <a:xfrm>
            <a:off x="857160" y="428760"/>
            <a:ext cx="3357720" cy="2071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1428840" y="24289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3143520" cy="21430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4725360" y="264312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столя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3" descr=""/>
          <p:cNvPicPr/>
          <p:nvPr/>
        </p:nvPicPr>
        <p:blipFill>
          <a:blip r:embed="rId3"/>
          <a:stretch/>
        </p:blipFill>
        <p:spPr>
          <a:xfrm>
            <a:off x="928800" y="328608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1006200" y="542916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ранспортир с линей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7" descr=""/>
          <p:cNvPicPr/>
          <p:nvPr/>
        </p:nvPicPr>
        <p:blipFill>
          <a:blip r:embed="rId4"/>
          <a:stretch/>
        </p:blipFill>
        <p:spPr>
          <a:xfrm>
            <a:off x="4714920" y="335772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8"/>
          <p:cNvSpPr/>
          <p:nvPr/>
        </p:nvSpPr>
        <p:spPr>
          <a:xfrm>
            <a:off x="4000680" y="5357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ий комбинированный 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414720" y="257184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инейка Стамм инерцио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5" descr=""/>
          <p:cNvPicPr/>
          <p:nvPr/>
        </p:nvPicPr>
        <p:blipFill>
          <a:blip r:embed="rId2"/>
          <a:stretch/>
        </p:blipFill>
        <p:spPr>
          <a:xfrm>
            <a:off x="4643280" y="642960"/>
            <a:ext cx="2714760" cy="18572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4294800" y="2571840"/>
            <a:ext cx="34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р складной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7" descr=""/>
          <p:cNvPicPr/>
          <p:nvPr/>
        </p:nvPicPr>
        <p:blipFill>
          <a:blip r:embed="rId3"/>
          <a:stretch/>
        </p:blipFill>
        <p:spPr>
          <a:xfrm>
            <a:off x="3286080" y="3929040"/>
            <a:ext cx="257184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8"/>
          <p:cNvSpPr/>
          <p:nvPr/>
        </p:nvSpPr>
        <p:spPr>
          <a:xfrm>
            <a:off x="3367440" y="51436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рительное колес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3:24:12Z</dcterms:created>
  <dc:creator>Comp</dc:creator>
  <dc:description/>
  <dc:language>en-US</dc:language>
  <cp:lastModifiedBy>Admin</cp:lastModifiedBy>
  <dcterms:modified xsi:type="dcterms:W3CDTF">2014-11-30T03:59:26Z</dcterms:modified>
  <cp:revision>14</cp:revision>
  <dc:subject/>
  <dc:title>Слайд 1</dc:title>
</cp:coreProperties>
</file>